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41F8-0315-44D4-9F9B-B846DEAB4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8F39-1028-4FD5-AC40-E35F53E64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9255-D2B1-479D-B032-78D365E86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10D6-B465-4357-9FAB-CFE5B018B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502E7-2C4C-4D17-9706-070BD00F3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A0577-2280-4E7A-9479-6B48D3389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754BF-7330-4A28-9C7B-B515AB1FF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0E5BC-F8F2-49D7-B64E-2778029B1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33B1D-EF08-4EF1-8359-ADE6EC0EB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D6A7D-48BB-4084-BC78-923B508B5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74AD6-7A6A-405F-9782-2EB279715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15495-0839-4144-B16A-DEE19BC92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C37D5-1FDD-44F9-BBC6-79F4C6EE6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76E35-1AF4-4E15-BB43-426B794F9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ACBA3-3BDE-436A-9AD1-32741D869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5D126-6675-40E8-9707-7FFBB8CB7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7933C-4292-43C6-8CED-8FC53905E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4FEF2-6171-42B6-9C76-73372964F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0951A-93EF-4067-9524-BFC1373CF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DE2AE-7BF7-4D65-B2F4-8DB47A212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1707A4-65DF-48BE-A16B-543820B1B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E2550-FAD2-4084-B37E-2CCB13440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87FDD-7694-442C-9BED-61CA74B16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DABA9-BA35-46F0-83DC-94DCAD35B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2C48C-DC15-4F21-A632-6ECD7EB5F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DED43-C133-4381-BAA6-1AF651BD3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979AD-7315-4B7D-955C-1A669C830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472A6-71E9-4D7D-91C0-C3F560846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F5CEC-40C8-4ECB-A1D5-87A3091B7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244C-5322-47BF-A32F-20AE648494D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E309-A0A5-4348-8125-4250B9E2396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A</a:t>
            </a:r>
            <a:endParaRPr b="0" lang="en-US" sz="3600" spc="-1" strike="noStrike">
              <a:solidFill>
                <a:srgbClr val="000000"/>
              </a:solidFill>
              <a:latin typeface="Arial"/>
            </a:endParaRPr>
          </a:p>
        </p:txBody>
      </p:sp>
      <p:pic>
        <p:nvPicPr>
          <p:cNvPr id="92" name="Picture 5"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12"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mall Groups:</a:t>
            </a:r>
            <a:endParaRPr b="0" lang="en-US" sz="2800" spc="-1" strike="noStrike">
              <a:solidFill>
                <a:srgbClr val="000000"/>
              </a:solidFill>
              <a:latin typeface="Arial"/>
            </a:endParaRPr>
          </a:p>
          <a:p>
            <a:pPr lvl="1" marL="743040" indent="-2858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sing sticker dots, select two ‘themes’ you would like to discuss further.  </a:t>
            </a:r>
            <a:endParaRPr b="0" lang="en-US" sz="2400" spc="-1" strike="noStrike">
              <a:solidFill>
                <a:srgbClr val="000000"/>
              </a:solidFill>
              <a:latin typeface="Arial"/>
            </a:endParaRPr>
          </a:p>
          <a:p>
            <a:pPr lvl="1" marL="743040" indent="-2858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recorder and facilitator will be assigned to each group.  </a:t>
            </a:r>
            <a:endParaRPr b="0" lang="en-US" sz="2400" spc="-1" strike="noStrike">
              <a:solidFill>
                <a:srgbClr val="000000"/>
              </a:solidFill>
              <a:latin typeface="Arial"/>
            </a:endParaRPr>
          </a:p>
          <a:p>
            <a:pPr lvl="1" marL="743040" indent="-2858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cilitators are encouraged to use the conversation starters (BLM L.2B.3) and coaching question stems for the dialogu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1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mall Groups:</a:t>
            </a:r>
            <a:endParaRPr b="0" lang="en-US" sz="2800" spc="-1" strike="noStrike">
              <a:solidFill>
                <a:srgbClr val="000000"/>
              </a:solidFill>
              <a:latin typeface="Arial"/>
            </a:endParaRPr>
          </a:p>
          <a:p>
            <a:pPr lvl="1" marL="743040" indent="-28584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wo 20 minute rotations:  Themed-Discussion Groups</a:t>
            </a:r>
            <a:endParaRPr b="0" lang="en-US" sz="2800" spc="-1" strike="noStrike">
              <a:solidFill>
                <a:srgbClr val="000000"/>
              </a:solidFill>
              <a:latin typeface="Arial"/>
            </a:endParaRPr>
          </a:p>
          <a:p>
            <a:pPr lvl="1" marL="743040" indent="-28584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Key Ques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what ways do you currently align resources with prior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what ways could resources be aligned</a:t>
            </a:r>
            <a:br>
              <a:rPr sz="2400"/>
            </a:br>
            <a:r>
              <a:rPr b="0" lang="en-CA" sz="2400" spc="-1" strike="noStrike">
                <a:solidFill>
                  <a:srgbClr val="000000"/>
                </a:solidFill>
                <a:latin typeface="Arial"/>
              </a:rPr>
              <a:t>with priorities more effectively?</a:t>
            </a:r>
            <a:endParaRPr b="0" lang="en-US" sz="2400" spc="-1" strike="noStrike">
              <a:solidFill>
                <a:srgbClr val="000000"/>
              </a:solidFill>
              <a:latin typeface="Arial"/>
            </a:endParaRPr>
          </a:p>
        </p:txBody>
      </p:sp>
      <p:pic>
        <p:nvPicPr>
          <p:cNvPr id="115" name="Picture 4" descr=""/>
          <p:cNvPicPr/>
          <p:nvPr/>
        </p:nvPicPr>
        <p:blipFill>
          <a:blip r:embed="rId1"/>
          <a:stretch/>
        </p:blipFill>
        <p:spPr>
          <a:xfrm>
            <a:off x="7308720" y="5079960"/>
            <a:ext cx="1584360" cy="151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17"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nsolidation</a:t>
            </a:r>
            <a:endParaRPr b="0" lang="en-US" sz="2000" spc="-1" strike="noStrike">
              <a:solidFill>
                <a:srgbClr val="000000"/>
              </a:solidFill>
              <a:latin typeface="Arial"/>
            </a:endParaRPr>
          </a:p>
        </p:txBody>
      </p:sp>
      <p:pic>
        <p:nvPicPr>
          <p:cNvPr id="118"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20" name="PlaceHolder 2"/>
          <p:cNvSpPr>
            <a:spLocks noGrp="1"/>
          </p:cNvSpPr>
          <p:nvPr>
            <p:ph/>
          </p:nvPr>
        </p:nvSpPr>
        <p:spPr>
          <a:xfrm>
            <a:off x="456840" y="1904760"/>
            <a:ext cx="8543880" cy="4724280"/>
          </a:xfrm>
          <a:prstGeom prst="rect">
            <a:avLst/>
          </a:prstGeom>
          <a:noFill/>
          <a:ln w="0">
            <a:noFill/>
          </a:ln>
        </p:spPr>
        <p:txBody>
          <a:bodyPr anchor="t">
            <a:normAutofit/>
          </a:bodyPr>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conversation starters did you use?  Why were these effective [or not] during your dialogue?</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conversation starters would you use during your SIP / BIP process?</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ow does a focus on aligning resources with priorities support the other 4 core leadership capacities?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enabling structures, conditions and processes are required to effectively align resources with prior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llective Self-Assessment</a:t>
            </a:r>
            <a:endParaRPr b="0" lang="en-US" sz="4400" spc="-1" strike="noStrike">
              <a:solidFill>
                <a:srgbClr val="0d469b"/>
              </a:solidFill>
              <a:latin typeface="Arial"/>
            </a:endParaRPr>
          </a:p>
        </p:txBody>
      </p:sp>
      <p:pic>
        <p:nvPicPr>
          <p:cNvPr id="122" name="Picture 5" descr=""/>
          <p:cNvPicPr/>
          <p:nvPr/>
        </p:nvPicPr>
        <p:blipFill>
          <a:blip r:embed="rId1"/>
          <a:stretch/>
        </p:blipFill>
        <p:spPr>
          <a:xfrm>
            <a:off x="1332000" y="1898640"/>
            <a:ext cx="6404040" cy="469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2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Jour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E Leadership Frame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Core Leadership Capac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 Board Improvement Pla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826920" y="1484280"/>
            <a:ext cx="7632720" cy="5145120"/>
          </a:xfrm>
          <a:prstGeom prst="rect">
            <a:avLst/>
          </a:prstGeom>
          <a:noFill/>
          <a:ln w="0">
            <a:noFill/>
          </a:ln>
        </p:spPr>
        <p:txBody>
          <a:bodyPr anchor="t">
            <a:normAutofit/>
          </a:bodyPr>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aching is one way of serving.  It’s a way of passing along the lessons learned from experience.  </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best leaders are teachers.  The best teachers are also the best learners.</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y know that by investing in developing others they are also developing themselves.</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ouzes and Posner, A Leader's Legacy, 2006</a:t>
            </a:r>
            <a:endParaRPr b="0" lang="en-US" sz="1800" spc="-1" strike="noStrike">
              <a:solidFill>
                <a:srgbClr val="000000"/>
              </a:solidFill>
              <a:latin typeface="Arial"/>
            </a:endParaRPr>
          </a:p>
          <a:p>
            <a:pPr marL="343080" indent="0" algn="ctr">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lore enabling structures, conditions and processes for aligning resources with prioriti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urther develop facilitation skills by engaging in courageous conversations focused aligning resources with priorities using conversation starter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7"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498240"/>
            <a:ext cx="8435880" cy="105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9"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100"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0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inds On</a:t>
            </a:r>
            <a:endParaRPr b="0" lang="en-US" sz="2000" spc="-1" strike="noStrike">
              <a:solidFill>
                <a:srgbClr val="000000"/>
              </a:solidFill>
              <a:latin typeface="Arial"/>
            </a:endParaRPr>
          </a:p>
        </p:txBody>
      </p:sp>
      <p:pic>
        <p:nvPicPr>
          <p:cNvPr id="10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05"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dividual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 of ways you currently align resources with prioritie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rd one strategy / approach / consideration per sticky no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07"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rganize the strategies / approaches / considerations under ‘common themes’ (e.g. budget, human resourc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09"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tion: Discussion Groups</a:t>
            </a:r>
            <a:endParaRPr b="0" lang="en-US" sz="2000" spc="-1" strike="noStrike">
              <a:solidFill>
                <a:srgbClr val="000000"/>
              </a:solidFill>
              <a:latin typeface="Arial"/>
            </a:endParaRPr>
          </a:p>
        </p:txBody>
      </p:sp>
      <p:pic>
        <p:nvPicPr>
          <p:cNvPr id="110"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8-15T20:00:43Z</dcterms:modified>
  <cp:revision>142</cp:revision>
  <dc:subject/>
  <dc:title>Slide 1</dc:title>
</cp:coreProperties>
</file>